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2.jpeg" ContentType="image/jpeg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F3C-35AA-435C-B68F-CAB57E00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24C-DF89-45C2-85B2-69566CF3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BEB-8F75-4255-A159-1E3A3615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D90-55EB-4971-B017-4CB6E924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E6A-7FBA-4FA1-B0CB-D9B374C0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EF6-73B6-4BD2-94CE-DCFFE566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376-877C-4AEA-A38E-88BF2BCF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9AB7-7E81-4D88-AB00-1A565FE6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050-9C06-4F96-8737-ED22AF4F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D80-2CC2-402A-ACF9-D8BDAF90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C5B-1DEB-4AA5-966D-ED1592D6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49B-691C-491B-B9AC-0052775C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2C3C-879C-44DF-B64C-59B5EF903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image" Target="../media/image4.wmf"/><Relationship Id="rId7" Type="http://schemas.openxmlformats.org/officeDocument/2006/relationships/image" Target="../media/image1.wmf"/><Relationship Id="rId8" Type="http://schemas.openxmlformats.org/officeDocument/2006/relationships/image" Target="../media/image7.pn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image" Target="../media/image4.wmf"/><Relationship Id="rId7" Type="http://schemas.openxmlformats.org/officeDocument/2006/relationships/image" Target="../media/image1.wmf"/><Relationship Id="rId8" Type="http://schemas.openxmlformats.org/officeDocument/2006/relationships/image" Target="../media/image7.pn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image" Target="../media/image4.wmf"/><Relationship Id="rId7" Type="http://schemas.openxmlformats.org/officeDocument/2006/relationships/image" Target="../media/image1.wmf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image" Target="../media/image4.wmf"/><Relationship Id="rId7" Type="http://schemas.openxmlformats.org/officeDocument/2006/relationships/image" Target="../media/image1.wmf"/><Relationship Id="rId8" Type="http://schemas.openxmlformats.org/officeDocument/2006/relationships/image" Target="../media/image7.pn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learn how to describe 11 c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play brain g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ask each other what chores you have to do and what you think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begin a dramatic homework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cer la c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3351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asear al per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3719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var la 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2739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oner la m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381636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asar la aspir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4032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o hacer 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00360" y="19368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651640" y="26028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1655640" cy="1630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219640" y="2133720"/>
            <a:ext cx="1657440" cy="1761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559640" y="260280"/>
            <a:ext cx="1584360" cy="160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333360"/>
            <a:ext cx="1763640" cy="156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0" y="2133720"/>
            <a:ext cx="1654200" cy="1726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1835280" y="260280"/>
            <a:ext cx="1520640" cy="165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7020000" y="1989000"/>
            <a:ext cx="1770120" cy="201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1979640" y="4365720"/>
            <a:ext cx="2376360" cy="181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4572000" y="4437000"/>
            <a:ext cx="2016000" cy="1617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3492360" y="2205000"/>
            <a:ext cx="15242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651640" y="26028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1655640" cy="1630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219640" y="2133720"/>
            <a:ext cx="1657440" cy="1761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559640" y="260280"/>
            <a:ext cx="1584360" cy="1606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0" y="333360"/>
            <a:ext cx="1763640" cy="1566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0" y="2133720"/>
            <a:ext cx="1654200" cy="172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1835280" y="260280"/>
            <a:ext cx="1520640" cy="165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7020000" y="1989000"/>
            <a:ext cx="1770120" cy="201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1979640" y="4365720"/>
            <a:ext cx="2376360" cy="1811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4572000" y="4437000"/>
            <a:ext cx="2016000" cy="1617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>
            <a:off x="3492360" y="2205000"/>
            <a:ext cx="15242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934920" cy="784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788000" y="3213000"/>
            <a:ext cx="1079280" cy="978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59280" y="4437000"/>
            <a:ext cx="1008000" cy="936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826920" y="981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900000" y="1989000"/>
            <a:ext cx="965160" cy="1008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900000" y="3068640"/>
            <a:ext cx="966960" cy="1052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900000" y="4437000"/>
            <a:ext cx="93672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quehace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651640" y="26028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1655640" cy="1630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19640" y="2133720"/>
            <a:ext cx="1657440" cy="176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559640" y="260280"/>
            <a:ext cx="1584360" cy="1606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333360"/>
            <a:ext cx="1763640" cy="1566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0" y="2133720"/>
            <a:ext cx="1654200" cy="1726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835280" y="260280"/>
            <a:ext cx="1520640" cy="165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7020000" y="1989000"/>
            <a:ext cx="1770120" cy="201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1979640" y="4365720"/>
            <a:ext cx="2376360" cy="1811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4572000" y="4437000"/>
            <a:ext cx="2016000" cy="1617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3492360" y="2205000"/>
            <a:ext cx="15242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quehace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189000"/>
            <a:ext cx="8353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 this task, you will need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 speech describing the house as if you were an estate ag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need to describe the house and its style in a typical style for an estate ag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peech must be 60 to 90 second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might you inclu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’s in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here is in your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an you record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bile / camera / voice recorder   IF IN DOUBT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404640"/>
            <a:ext cx="8353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 may work in pairs to share ideas, but everyone will need to present their own, individual spee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 will have the rest of this lesson, a homework and most of another lesson to prepare a high quality spee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rning, certain speeches might be recorded to ensure quality and for possible training purpos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1700280"/>
            <a:ext cx="619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engo qu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 hav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3085920" cy="3357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egar los pl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lanchar la 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3527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rtar el césp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504036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ci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59280" y="907920"/>
            <a:ext cx="3381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impiar el co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acar la bas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56167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7:27:05Z</dcterms:created>
  <dc:creator>Owner1</dc:creator>
  <dc:description/>
  <dc:language>en-US</dc:language>
  <cp:lastModifiedBy>Owner1</cp:lastModifiedBy>
  <dcterms:modified xsi:type="dcterms:W3CDTF">2008-11-16T15:56:13Z</dcterms:modified>
  <cp:revision>6</cp:revision>
  <dc:subject/>
  <dc:title>Slide 1</dc:title>
</cp:coreProperties>
</file>